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D2C-9A8B-4850-9CA4-BE956D9E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091-F0DC-4C67-BCCE-A8BAD5CC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09EE-8610-43CF-9630-81963DA0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F329-C9F0-4CAB-9C05-DAC38200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0192-C85A-4BC6-B555-C0FBA705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04AD-B234-457F-96FA-69EB2CC1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0864-D6A8-4D8D-9BA2-5A47C199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5499-6304-417D-B6A7-30C78E1B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4104-EE57-457E-9926-6BA5BA19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C4A7-5476-45EB-BA4C-08A45950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EB75-A30C-45C1-9E73-7E57A179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86A-02CB-4FAE-8257-8DC42614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6BDC-61F9-4067-9ADA-71B0708C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F062-BBCA-43B7-8E04-048F7035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E412-F879-4769-95D4-0CFB9A8F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31F3-67A1-4C5D-8DAB-3BF141A6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82EA-8593-4023-AC67-9955341B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3EC0C-2883-40F0-9408-64D69EFF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5BDB7-0CC4-462A-9B2F-8E0748B5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97D20-1173-482D-846A-68781AC9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CF5AA-4E17-4012-9DB3-FB7DFDE7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A4AED-F679-42E0-BAAA-7BBB3339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0ED2-5811-4261-9F43-85639FA1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D4C44-722C-4210-9B42-5A8EE941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89079-B67F-4047-91E3-2C810C9D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3F1D2-C3FB-4E8E-976C-8810DAC5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A6992-BA43-4B8F-9E18-D1DCB242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59ED8-8D6D-46D9-A29A-328C1E32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D3B19-0C01-4200-88AB-35A4CC3E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FC163-71C0-4925-AD1C-3ABD1E8B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D59-9986-43A4-9C59-BDE4A88A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9228-1F83-4103-9121-6F9E8AC3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A6B-6E98-4E00-ADBB-7BC2F51D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BA8-38CB-40A6-BDB3-F0353854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90F-60CC-49F5-B6B3-06B27FF8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0EA0-618C-46B0-BE61-7009057D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54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172200"/>
            <a:ext cx="408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119C-D4AA-4348-89EC-999817F84D75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F1B9-024C-418D-8E81-B90D949643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D8BA-399F-4059-BF6C-75EC5F782366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77230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etraedul Regul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440" y="2895480"/>
            <a:ext cx="7010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ărcuţ Şerb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antea Andr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antea Cătăl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Georgia"/>
              </a:rPr>
              <a:t>Def:Tetraedul regulat este piramida cu baza triunghi echilateral şi înaltimea în centrul bazei.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6" name="Picture 6" descr="kkk"/>
          <p:cNvPicPr/>
          <p:nvPr/>
        </p:nvPicPr>
        <p:blipFill>
          <a:blip r:embed="rId2"/>
          <a:stretch/>
        </p:blipFill>
        <p:spPr>
          <a:xfrm>
            <a:off x="1295280" y="2819520"/>
            <a:ext cx="5943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e5ffff"/>
                </a:solidFill>
                <a:latin typeface="Georgia"/>
              </a:rPr>
              <a:t>Element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67080" y="228600"/>
            <a:ext cx="47246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vârful piramidei: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vârfurile bazei: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 A, B, 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inălţimea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VO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este distanta de la vârf la bază notată cu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feţele laterale sunt triunghiuri: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VAB, VBC, VC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faţa bazei: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AB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uchii: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AB, BC, A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laturile: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VA, VB, VC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potema bazei :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OM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_|_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BC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,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aparţine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BC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potema piramidei: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VM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_|_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BC M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parţine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B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fgd"/>
          <p:cNvPicPr/>
          <p:nvPr/>
        </p:nvPicPr>
        <p:blipFill>
          <a:blip r:embed="rId2"/>
          <a:stretch/>
        </p:blipFill>
        <p:spPr>
          <a:xfrm>
            <a:off x="0" y="1828800"/>
            <a:ext cx="4219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ormul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304560"/>
            <a:ext cx="4572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A</a:t>
            </a:r>
            <a:r>
              <a:rPr b="0" lang="en-US" sz="2000" spc="-1" strike="noStrike">
                <a:solidFill>
                  <a:srgbClr val="162e45"/>
                </a:solidFill>
                <a:latin typeface="Georgia"/>
              </a:rPr>
              <a:t>b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 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62e45"/>
                </a:solidFill>
                <a:latin typeface="Georgi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62e45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a</a:t>
            </a:r>
            <a:r>
              <a:rPr b="0" lang="en-US" sz="1800" spc="-1" strike="noStrike">
                <a:solidFill>
                  <a:srgbClr val="162e45"/>
                </a:solidFill>
                <a:latin typeface="Georgia"/>
              </a:rPr>
              <a:t>b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  =</a:t>
            </a:r>
            <a:r>
              <a:rPr b="0" i="1" lang="en-US" sz="2800" spc="-1" strike="noStrike">
                <a:solidFill>
                  <a:srgbClr val="162e45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AM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          </a:t>
            </a:r>
            <a:r>
              <a:rPr b="0" lang="en-US" sz="1800" spc="-1" strike="noStrike">
                <a:solidFill>
                  <a:srgbClr val="162e45"/>
                </a:solidFill>
                <a:latin typeface="Georgia"/>
              </a:rPr>
              <a:t>n  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=       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A</a:t>
            </a:r>
            <a:r>
              <a:rPr b="0" lang="en-US" sz="1800" spc="-1" strike="noStrike">
                <a:solidFill>
                  <a:srgbClr val="162e45"/>
                </a:solidFill>
                <a:latin typeface="Georgia"/>
              </a:rPr>
              <a:t>l  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A</a:t>
            </a:r>
            <a:r>
              <a:rPr b="0" lang="en-US" sz="1800" spc="-1" strike="noStrike">
                <a:solidFill>
                  <a:srgbClr val="162e45"/>
                </a:solidFill>
                <a:latin typeface="Georgia"/>
              </a:rPr>
              <a:t>t  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= A</a:t>
            </a:r>
            <a:r>
              <a:rPr b="0" lang="en-US" sz="1800" spc="-1" strike="noStrike">
                <a:solidFill>
                  <a:srgbClr val="162e45"/>
                </a:solidFill>
                <a:latin typeface="Georgia"/>
              </a:rPr>
              <a:t>l 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+ A</a:t>
            </a:r>
            <a:r>
              <a:rPr b="0" lang="en-US" sz="1800" spc="-1" strike="noStrike">
                <a:solidFill>
                  <a:srgbClr val="162e45"/>
                </a:solidFill>
                <a:latin typeface="Georgi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2e45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V =     </a:t>
            </a:r>
            <a:r>
              <a:rPr b="0" lang="en-US" sz="1800" spc="-1" strike="noStrike">
                <a:solidFill>
                  <a:srgbClr val="162e45"/>
                </a:solidFill>
                <a:latin typeface="Georgia"/>
              </a:rPr>
              <a:t>x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 A</a:t>
            </a:r>
            <a:r>
              <a:rPr b="0" lang="en-US" sz="1800" spc="-1" strike="noStrike">
                <a:solidFill>
                  <a:srgbClr val="162e45"/>
                </a:solidFill>
                <a:latin typeface="Georgia"/>
              </a:rPr>
              <a:t>b x 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62e45"/>
                </a:solidFill>
                <a:latin typeface="Georgia"/>
              </a:rPr>
              <a:t>      </a:t>
            </a:r>
            <a:r>
              <a:rPr b="0" i="1" lang="en-US" sz="2800" spc="-1" strike="noStrike">
                <a:solidFill>
                  <a:srgbClr val="162e45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62e45"/>
                </a:solidFill>
                <a:latin typeface="Georgi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62e45"/>
                </a:solidFill>
                <a:latin typeface="Georgi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fgd"/>
          <p:cNvPicPr/>
          <p:nvPr/>
        </p:nvPicPr>
        <p:blipFill>
          <a:blip r:embed="rId1"/>
          <a:stretch/>
        </p:blipFill>
        <p:spPr>
          <a:xfrm>
            <a:off x="0" y="1676520"/>
            <a:ext cx="4219560" cy="51814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12" descr=""/>
          <p:cNvPicPr/>
          <p:nvPr/>
        </p:nvPicPr>
        <p:blipFill>
          <a:blip r:embed="rId2"/>
          <a:stretch/>
        </p:blipFill>
        <p:spPr>
          <a:xfrm>
            <a:off x="6019920" y="762120"/>
            <a:ext cx="609480" cy="8157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4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15" descr=""/>
          <p:cNvPicPr/>
          <p:nvPr/>
        </p:nvPicPr>
        <p:blipFill>
          <a:blip r:embed="rId3"/>
          <a:stretch/>
        </p:blipFill>
        <p:spPr>
          <a:xfrm>
            <a:off x="5943600" y="1981080"/>
            <a:ext cx="228600" cy="785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7"/>
          <p:cNvSpPr/>
          <p:nvPr/>
        </p:nvSpPr>
        <p:spPr>
          <a:xfrm>
            <a:off x="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18" descr=""/>
          <p:cNvPicPr/>
          <p:nvPr/>
        </p:nvPicPr>
        <p:blipFill>
          <a:blip r:embed="rId4"/>
          <a:stretch/>
        </p:blipFill>
        <p:spPr>
          <a:xfrm>
            <a:off x="7315200" y="1905120"/>
            <a:ext cx="457200" cy="8395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0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21" descr=""/>
          <p:cNvPicPr/>
          <p:nvPr/>
        </p:nvPicPr>
        <p:blipFill>
          <a:blip r:embed="rId5"/>
          <a:stretch/>
        </p:blipFill>
        <p:spPr>
          <a:xfrm>
            <a:off x="5257800" y="3048120"/>
            <a:ext cx="380880" cy="523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3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4" descr=""/>
          <p:cNvPicPr/>
          <p:nvPr/>
        </p:nvPicPr>
        <p:blipFill>
          <a:blip r:embed="rId6"/>
          <a:stretch/>
        </p:blipFill>
        <p:spPr>
          <a:xfrm>
            <a:off x="6095880" y="3124080"/>
            <a:ext cx="381240" cy="5079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6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27" descr=""/>
          <p:cNvPicPr/>
          <p:nvPr/>
        </p:nvPicPr>
        <p:blipFill>
          <a:blip r:embed="rId7"/>
          <a:stretch/>
        </p:blipFill>
        <p:spPr>
          <a:xfrm>
            <a:off x="6934320" y="3111480"/>
            <a:ext cx="380880" cy="5079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9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30" descr=""/>
          <p:cNvPicPr/>
          <p:nvPr/>
        </p:nvPicPr>
        <p:blipFill>
          <a:blip r:embed="rId8"/>
          <a:stretch/>
        </p:blipFill>
        <p:spPr>
          <a:xfrm>
            <a:off x="6019920" y="4114800"/>
            <a:ext cx="761760" cy="6048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2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15" descr=""/>
          <p:cNvPicPr/>
          <p:nvPr/>
        </p:nvPicPr>
        <p:blipFill>
          <a:blip r:embed="rId9"/>
          <a:stretch/>
        </p:blipFill>
        <p:spPr>
          <a:xfrm>
            <a:off x="5867280" y="5562720"/>
            <a:ext cx="228600" cy="78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Georgia"/>
              </a:rPr>
              <a:t>PROBLEMĂ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O piramidă triunghiulară regulată VABC are înălţimea VO= 13 cm şi latura bazei AB=12 cm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ă se determine suma distanţelor de la vârf la laturile baze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ă se calculeze volumul piramide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ă se calculeze aria laterala a piramide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ă se calculeze distanţa de la mijlocul înălţimii la o faţă latera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ulegere: pag 143, Varianta 14, subiectul al lll-lea, pr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5:43:43Z</dcterms:created>
  <dc:creator>KaTa</dc:creator>
  <dc:description/>
  <dc:language>en-US</dc:language>
  <cp:lastModifiedBy>KaTa</cp:lastModifiedBy>
  <dcterms:modified xsi:type="dcterms:W3CDTF">2011-02-21T17:39:49Z</dcterms:modified>
  <cp:revision>11</cp:revision>
  <dc:subject/>
  <dc:title>Tetraedul Regulat</dc:title>
</cp:coreProperties>
</file>